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7FD-75EA-4D46-879E-FA48D4E6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CB3-15B2-4CBC-BA92-7EA13F20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868-F4E1-4579-9A59-92B32B8B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23F-C42B-4816-BFF4-43C222D0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63A-BE03-47B1-A2A0-6C07F7BF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AB7-9BA4-4D2F-B69F-B27D3569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F0F-F91B-4F83-B455-D9F170C6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1E2-483C-4DD9-A3D2-9BC841E7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80D-5CB8-4749-AE5D-AC11E24A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AE6-D898-44C1-93C3-9BC5B429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5C4-E89E-487A-B79F-2D5DB277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9C3-3B8E-44EC-8B91-855F3E2A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58EB-2056-463D-9080-B84933176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0"/>
            <a:ext cx="624816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حمدَ رددوا لله ربِّنا ولنتلُ دائماً من عمقِ قلبِ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نادوا بملكه كلُ العوالم يحيا مليكُ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3200400" cy="12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ليلُ دامسُ والقلبُ قاتمٌ كالشمسِ مِن علِ يسوعُ قادمُ يحيا 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سوعُ للسما حيثُ السعاده حقاً طريقُ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95560" y="228600"/>
            <a:ext cx="5248440" cy="6629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380988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قد ضلَّ جِنسنا والموتُ أُعلِ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يا ربُ مَنْ لَنا سلوى لحُزنِ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يسوعُ قد محا بالصلبِ موتَنا أضحى حياتَ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13:40:21Z</dcterms:created>
  <dc:creator>HANI SAFI</dc:creator>
  <dc:description/>
  <dc:language>en-US</dc:language>
  <cp:lastModifiedBy>HANI SAFI</cp:lastModifiedBy>
  <dcterms:modified xsi:type="dcterms:W3CDTF">2003-05-30T13:40:32Z</dcterms:modified>
  <cp:revision>1</cp:revision>
  <dc:subject/>
  <dc:title>Slide 1</dc:title>
</cp:coreProperties>
</file>